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4A9-4EBD-4E8C-8C8A-D814D124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8C0-A7F5-4012-A58C-CC87F53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D16-3BD5-4E32-A45A-9EBB4E49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884-3213-4285-A978-B5E8C86E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D8E-3205-418B-B85F-27EC0169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5BF5-CE8D-4BD1-A78B-5EF92BB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EB36-8A97-4C9A-8A4E-8B5BC2C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915-AE94-4B6E-B355-8197883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92A-0A77-48D4-BC73-16DB7E8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DABC-061B-4F0C-9131-7C63AB0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9403-98E9-448D-B79F-E53ACD0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79C-D20E-4496-9001-507AF2B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993-E69F-4DEF-A2FB-458A8DF8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2BA9-8250-4930-8E94-13EF0A0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0C4-3EBC-45E3-B4FB-2B6D552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89B-EB5D-4B19-A3A1-939CA7BD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2F5-1D84-4C6C-959D-C91A467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F59-0005-4E0C-BDF9-49B02E3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73B-C518-4BAF-A5E4-1828FD2F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03E-D067-4320-9CFC-68B69DA6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DE3-A28F-437B-86AA-1E56BB40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2B9-EA70-4C96-98D2-A61980B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567-5E31-47CD-8D0F-40D36495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4DD-6DA9-491A-AC84-BC8B611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595E-33E6-4139-96AC-933212E14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CAEA-98C5-483A-828B-9A41A68F4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1171"/>
                </a:solidFill>
                <a:uFillTx/>
                <a:latin typeface="Times New Roman"/>
              </a:rPr>
              <a:t>Mi mansion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86756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32400" y="1828800"/>
            <a:ext cx="334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1171"/>
                </a:solidFill>
                <a:latin typeface="Times New Roman"/>
              </a:rPr>
              <a:t>Mi mansion es elegan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1171"/>
                </a:solidFill>
                <a:latin typeface="French Script MT"/>
              </a:rPr>
              <a:t>Mi cosina!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1171"/>
                </a:solidFill>
                <a:uFillTx/>
                <a:latin typeface="French Script MT"/>
              </a:rPr>
              <a:t>Mi cosina es moderna y bonit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05120" y="2590920"/>
            <a:ext cx="5105160" cy="370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French Script MT"/>
              </a:rPr>
              <a:t>Mi bano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bano es cola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French Script MT"/>
              </a:rPr>
              <a:t>Mi sala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ench Script MT"/>
              </a:rPr>
              <a:t>Mi sala es moderno y grand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486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Mi dormitorio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rench Script MT"/>
              </a:rPr>
              <a:t>Mi dormitorio es fabuloso y modern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4952880" cy="371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66"/>
                </a:solidFill>
                <a:latin typeface="Times New Roman"/>
              </a:rPr>
              <a:t>Mi garaj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66"/>
                </a:solidFill>
                <a:latin typeface="Times New Roman"/>
              </a:rPr>
              <a:t>Mi garaje es moderno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4267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i jardi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i jardin es colar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5053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7:19Z</dcterms:created>
  <dc:creator>forrestash</dc:creator>
  <dc:description/>
  <dc:language>en-US</dc:language>
  <cp:lastModifiedBy>ashley forrest</cp:lastModifiedBy>
  <dcterms:modified xsi:type="dcterms:W3CDTF">2011-04-07T18:12:28Z</dcterms:modified>
  <cp:revision>4</cp:revision>
  <dc:subject/>
  <dc:title>Mi casa</dc:title>
</cp:coreProperties>
</file>